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677-2C6C-4EE1-8CDF-F8DA94DB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C8A-5BA0-4B0E-B02C-48E9C696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4CF-6E57-4471-8F83-8DA5AC09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53C-F8AF-4BC9-8AC6-1435978B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B47-CCA3-4F2D-8830-670B7350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A6A-48D5-4E0C-936D-0727F752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F33-2932-4C0D-A12D-D914B88F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09A-B983-408B-B771-A9C98F14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FBF-9313-4E89-A3D6-B67D203E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920-80D4-4724-8F5A-27743830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C63-B340-4240-B958-57209B6A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D32-8D9D-4A92-AADA-FFF78AEA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A9AF-0E8D-40D8-8E9E-3823B9354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3520" y="6248520"/>
            <a:ext cx="25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Sesiunea iunie - iu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Ion (1920): 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Glasul pământului şi Glasul iubir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iviu Rebreanu – Gorila (1938):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comp_i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Guest</cp:lastModifiedBy>
  <dcterms:modified xsi:type="dcterms:W3CDTF">2012-06-15T12:33:47Z</dcterms:modified>
  <cp:revision>24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